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0"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3"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4"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6CB6-6C78-4229-85B9-67A92C3AF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685800" y="1143000"/>
            <a:ext cx="5486400" cy="3086280"/>
          </a:xfrm>
          <a:prstGeom prst="rect">
            <a:avLst/>
          </a:prstGeom>
          <a:ln w="0">
            <a:noFill/>
          </a:ln>
        </p:spPr>
      </p:sp>
      <p:sp>
        <p:nvSpPr>
          <p:cNvPr id="5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lease take a moment to read through the Teacher Note on pages ________.</a:t>
            </a:r>
            <a:r>
              <a:rPr b="0" i="1" lang="en-US" sz="1200" spc="-1" strike="noStrike">
                <a:solidFill>
                  <a:srgbClr val="000000"/>
                </a:solidFill>
                <a:latin typeface="Calibri"/>
              </a:rPr>
              <a:t> Allow 2–3 minutes for participants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alternate materials for the Elaborate are available for demonstration purposes, allow participants an opportunity to view the materials. For example, there are a few different types of fan carts that are commercially available. Different materials may be used to connect multiple carts depending on the style of the cart. If teachers are not able to purchase fan carts, handheld, battery-operated fans can be used with Halls carriage carts or other science carts to make a fan c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fan cart simulation was developed for this training and is available on the Texas Gateway. The simulation can be used as an alternate resource for classroom teachers. For example, students can explore the simulation after completing the hands-on investigation to clarify and reinforce ideas about balanced and unbalanced forces. Let’s take a few minutes to explore the online sim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lick the image to go to the online simulation. Demonstrate how it can be used to complete the Elaborate activity. If participants have access to technology, provide 5–10 minutes for participants to explore the simulation on their ow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49B94-A044-4B22-A147-C0F97CBAE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D0F09-12C9-42A1-8B67-661517FA0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B8024-E005-4C30-A938-48435DBF29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BCEF5-B2CE-40EA-87E8-BF1DB41D85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A40F3-2DFE-4E59-9E8E-F532A2FE3C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810265-CBBF-4FEA-B772-7AEDF2A5E1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9BCD17-1BC9-4670-848F-6DFA17514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53501-3F33-4307-9148-4BAFCFFB98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29D63-DE86-4593-B663-4FE64C5AF2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734B90-29EA-4042-BF02-A310455C82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0432DC-25AB-4E8B-B561-B6FE820973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82395F-2665-4F1D-B706-C432456A72E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BC89F-5B13-4CB1-8ABA-9861A98E7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9D3383-3717-4996-B7A9-3D8C740390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6A7905-6372-4E8A-882B-EEC340D8DA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01F147-D530-4A97-8CBE-5AB4D6A389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5DC9D0-3F3B-43C4-AA18-5D2EA1BF69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F23030-3FC7-4A8F-B412-572E07081E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B8B4DA-1528-4279-8BC0-123E2973B7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DCC191-EAE8-424C-AE07-C9C0B1280D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B04B5B-E003-41A3-A9CA-0AD5BC7196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365B6F-B86D-4C38-AF7F-51B46A2F85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C073F5-E024-410E-8B07-6D7814B6F4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E8E66-0685-4601-BB22-DF33B1FAD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247848-009D-4E59-8A0E-7F1BDF2B5A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13AEEBF-AB27-414C-88C0-FEFD8DB383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987620-619A-4DAB-9FF3-063F9D2770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23CECA-247A-456C-ADCA-93B9A380DC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3B6931-B335-4145-A6F3-9C9DC03218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F6A198-5908-43AA-BDA2-8037EBF739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29B99C-52C7-4A77-AD64-38FC2322E4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E084A-2AA6-4F60-8595-4966AD030F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6B7E6-1234-4A75-B2F6-FC6E3ACA9B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2670B2-CD66-4FE5-965C-D8ABF217B2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79239-E574-4B78-B00D-BD02F337D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BDC72A-DF21-4D7F-9A2D-194546FEB1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318D49-1E7F-4623-BFEA-4151D60224B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453F61-9283-48C2-8B4D-4F850990F7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C9966B-13CF-4653-B04B-E488BD1C3D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DD2FB0-B85F-4528-BF2E-947D9CAD88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2CC821-3EA0-4978-9A32-B5D83BB325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A4A1A3-4E02-4DAA-857A-23DA619DCE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FDF875-3A27-499E-ABE4-34BF13B160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FD648C-8893-43A8-8C94-473F75E4D9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CE0BB3-5528-480B-9503-7E325E0F17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386E9-4160-432B-808B-3CEF69AD0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A3AFF0-B43B-47A9-B629-8C7FFB9937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532DEA-EE02-457D-BABE-8874BACDB2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D5840E-5E32-42E6-A365-F738BDC91D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A6B52D-85C5-4946-8F15-D51269E13A4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7915AC-4FB3-4F7E-82BA-C13F8A2C811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29552-6A95-49D2-AFBD-D3277F112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25A56-9620-4E6B-A6A5-78DF5385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86913-2C21-4081-8709-F96CF2E6F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96309-2CBE-4DA8-8906-F5A51F4C5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5EFFB-B64E-498D-85F0-4F6256E86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8A5B7-6E34-4D08-A75C-32C01F437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2A5F5-EC5E-4859-9F6A-B042B5337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D9B0A-E5F1-4FBE-B2D5-6B2105CA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86C27-7FDB-410A-8528-82F0D27F3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590E5-E97E-41DC-A791-A7314909D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7DD56-CA3C-4A74-B32D-87D0FFE04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CE568C-10E3-4F6F-BBFC-BE420D11F6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9C47E-31D2-4A0D-BDFE-EECA3E7DD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895274-9C7B-40F3-B44F-33836FDB9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EBE01-5E21-45D5-9885-D07A5B7FD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A30F0-500A-4B8B-B213-563A2BE1B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67D04-4EAD-4CB7-81D3-D65589468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A4709-2D27-4896-8218-329DD2F21F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B4252-293B-4752-B6A0-7A28D936F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2BCC3-7189-4261-9FF3-4E70B4AC8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E4CDC-DC1C-42A5-8C68-6BBAFE676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CD241-BBFC-4F91-833A-7AFA660B2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39AA7E-A2D0-41B3-B136-4EBAE58D2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6F3F41-D858-4039-993F-207959B320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AF21E4-758F-4E88-9A8A-5E939564C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69CB6-8171-48BD-8ACE-DC0EFBE20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98229-D397-44DB-B756-AE5825B62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DC93-2FF1-4F53-81A3-219ECD8E5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5C2DC-7721-45F0-856C-2F39688BB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2030C-A5E7-4DA9-89E4-35406FB30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9BFA5-7887-4C7E-AFA8-2EAE2B0BB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6DCF0-EA8B-4B2B-8182-54498B1D0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CDF57-C8BE-479B-918D-BED4CC64C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73DFF-98C4-4E9A-AE52-2773AAD23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EA7FFE-7E0B-47FB-A701-C717C0297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A2DA12-3C5C-4D66-8C37-9EE5F62AC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6D4D3-D32D-4AC6-9BCE-766E14935F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B3561-77DE-4CB9-8634-DAAE9CBD04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71CA-383E-4281-8C02-3A552899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AC663-9E1B-468D-870B-13C84A342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0B7E2-EFEF-44A4-9457-F3A41A291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27AAF-3D61-41FE-A879-A8B93C5DA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433F6E-56D6-4369-831A-6FD74868E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AB81C-1D75-4022-98BF-736168E36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267B6-6894-4B8D-A399-07B9AA699D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2E005-9569-4287-8B94-ADE9A51C8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D6418-5057-4C00-85C9-FD3EA251A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62441-0932-46C8-BC08-2BDE66521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4983A-BC52-4EB3-8E87-11C6E298E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2BA6B-A39E-4F9B-82F6-F6A5D2B0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15E77-1D17-4C95-9C50-360756323C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49879B-6744-41A0-BC24-CA5EE62DE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9358CC-D1F5-4A52-8EB1-08E0E9E10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2EEEC7-4DE1-40C8-AC6E-0631321B99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1F511-7AFE-47E3-A267-556B28C79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5CCBBC-38EF-4E88-8552-DC3C0CB50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4B107-A4CD-444C-910B-066556E9E7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5EF56-6C02-41AD-A259-602D809B1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92D59-E579-448D-BBEC-1091B08798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0AB46-70C9-412B-9F69-664771E67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AA1EB-0037-4EC6-AAD8-245228AF3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3A2CF-8A3C-478E-8227-954E01BD6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3F5331-3C2D-4101-B41B-974991195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3C9D86-38B1-4025-99CE-75033906AD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E67A4D-B726-494C-BA2F-AAFA515077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D9A5E-7F8F-46AD-9332-33DFAC77F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1664A-F484-4F82-B2FE-F930219D6E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BF12AA-AB9B-4214-9A1F-DA1214767F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ABEADB-5743-44F8-A260-6A88DD7DFB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D42945-125F-4B92-B57B-8E9F8955DB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DCBB8-6178-4562-B35F-6B90D6AE95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33DC-C976-4E3D-B621-BC9A412D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6F5E4-3E54-4C15-BC5E-53A968D14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3D6A6-9DA3-4704-BF91-78889D1B3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99961-360E-4621-8403-F92BB9B37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CAB6BB-06B7-4A45-BEAC-E02F428FE4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FCC2BB-92BB-49E0-8CB3-A566FAC934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28D986-6977-4914-A592-F43EB00778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E34ADC-73C2-464C-B637-12EE66B23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5607F-B90D-4CD5-83F0-164F0FAF5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55648-2C62-4325-9056-35D072A620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4935F-E006-4081-BDD2-FB5001373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022C1-CDE3-4B02-9A23-597E7365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B3C016-0CED-476E-A3F7-21D98CA474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B8C9A-2D44-465D-8ED7-746C78E4B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99688-B033-42D3-ADE3-6F6F5838B5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56E64-8237-4C72-B667-FF145BB802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F3B22-18F6-4FD2-8EEC-C25010D689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0E02A7-A8A6-435D-A3ED-ED5A64EE36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E6012F-47E6-4399-892D-A2970FB2F9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0DB678-6073-4ED2-B222-5B3155A96E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BAD3F-DF08-46A8-B91A-9CC6C584D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62B69D-7137-4510-844C-83F64E3FD6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19AE8-F438-47F7-920D-882232914262}" type="slidenum">
              <a:rPr b="0" lang="en-US"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PlaceHolder 5"/>
          <p:cNvSpPr>
            <a:spLocks noGrp="1"/>
          </p:cNvSpPr>
          <p:nvPr>
            <p:ph type="sldNum" idx="30"/>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AB46-4EAD-44B9-A446-03F342C6EA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9"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5"/>
          <p:cNvSpPr>
            <a:spLocks noGrp="1"/>
          </p:cNvSpPr>
          <p:nvPr>
            <p:ph type="sldNum" idx="33"/>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97CA-AAEA-46EF-BBF5-71BB5669BB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0"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PlaceHolder 5"/>
          <p:cNvSpPr>
            <a:spLocks noGrp="1"/>
          </p:cNvSpPr>
          <p:nvPr>
            <p:ph type="sldNum" idx="36"/>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B095-200F-407B-BE42-0C8388C8A2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80A1-734B-4DCC-A12F-D98F6EBE15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Wave 6"/>
          <p:cNvGrpSpPr/>
          <p:nvPr/>
        </p:nvGrpSpPr>
        <p:grpSpPr>
          <a:xfrm>
            <a:off x="-785880" y="-2316240"/>
            <a:ext cx="14173200" cy="4078440"/>
            <a:chOff x="-785880" y="-2316240"/>
            <a:chExt cx="14173200" cy="4078440"/>
          </a:xfrm>
        </p:grpSpPr>
        <p:pic>
          <p:nvPicPr>
            <p:cNvPr id="83" name="Wave 6" descr=""/>
            <p:cNvPicPr/>
            <p:nvPr/>
          </p:nvPicPr>
          <p:blipFill>
            <a:blip r:embed="rId2"/>
            <a:stretch/>
          </p:blipFill>
          <p:spPr>
            <a:xfrm>
              <a:off x="-785880" y="-2316240"/>
              <a:ext cx="14173200" cy="4078440"/>
            </a:xfrm>
            <a:prstGeom prst="rect">
              <a:avLst/>
            </a:prstGeom>
            <a:ln w="0">
              <a:noFill/>
            </a:ln>
          </p:spPr>
        </p:pic>
        <p:sp>
          <p:nvSpPr>
            <p:cNvPr id="84" name=""/>
            <p:cNvSpPr/>
            <p:nvPr/>
          </p:nvSpPr>
          <p:spPr>
            <a:xfrm rot="21121800">
              <a:off x="75960" y="-490680"/>
              <a:ext cx="12445920" cy="4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85" name="Wave 7"/>
          <p:cNvGrpSpPr/>
          <p:nvPr/>
        </p:nvGrpSpPr>
        <p:grpSpPr>
          <a:xfrm>
            <a:off x="-1530360" y="5010120"/>
            <a:ext cx="14514480" cy="4487760"/>
            <a:chOff x="-1530360" y="5010120"/>
            <a:chExt cx="14514480" cy="4487760"/>
          </a:xfrm>
        </p:grpSpPr>
        <p:pic>
          <p:nvPicPr>
            <p:cNvPr id="86" name="Wave 7" descr=""/>
            <p:cNvPicPr/>
            <p:nvPr/>
          </p:nvPicPr>
          <p:blipFill>
            <a:blip r:embed="rId3"/>
            <a:stretch/>
          </p:blipFill>
          <p:spPr>
            <a:xfrm>
              <a:off x="-1530360" y="5010120"/>
              <a:ext cx="14514480" cy="4487760"/>
            </a:xfrm>
            <a:prstGeom prst="rect">
              <a:avLst/>
            </a:prstGeom>
            <a:ln w="0">
              <a:noFill/>
            </a:ln>
          </p:spPr>
        </p:pic>
        <p:sp>
          <p:nvSpPr>
            <p:cNvPr id="87" name=""/>
            <p:cNvSpPr/>
            <p:nvPr/>
          </p:nvSpPr>
          <p:spPr>
            <a:xfrm rot="10287000">
              <a:off x="-633600" y="7018200"/>
              <a:ext cx="12723480" cy="473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F5AE-C9D5-4233-91C2-10FCB2BC85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5"/>
          <p:cNvSpPr>
            <a:spLocks noGrp="1"/>
          </p:cNvSpPr>
          <p:nvPr>
            <p:ph type="sldNum" idx="12"/>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1F11-8A6B-4A7B-9FBD-4ED904FCE8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PlaceHolder 5"/>
          <p:cNvSpPr>
            <a:spLocks noGrp="1"/>
          </p:cNvSpPr>
          <p:nvPr>
            <p:ph type="sldNum" idx="15"/>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BB3B-0288-4CEB-8382-895778C3EF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5"/>
          <p:cNvSpPr>
            <a:spLocks noGrp="1"/>
          </p:cNvSpPr>
          <p:nvPr>
            <p:ph type="sldNum" idx="18"/>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A240-7D6B-4E14-B582-EF2932A439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5"/>
          <p:cNvSpPr>
            <a:spLocks noGrp="1"/>
          </p:cNvSpPr>
          <p:nvPr>
            <p:ph type="sldNum" idx="21"/>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3F3C-71F8-4943-AEFF-387DE62EBC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PlaceHolder 5"/>
          <p:cNvSpPr>
            <a:spLocks noGrp="1"/>
          </p:cNvSpPr>
          <p:nvPr>
            <p:ph type="sldNum" idx="24"/>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18BD-ECE3-48A8-B0AA-4206982D98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6"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PlaceHolder 5"/>
          <p:cNvSpPr>
            <a:spLocks noGrp="1"/>
          </p:cNvSpPr>
          <p:nvPr>
            <p:ph type="sldNum" idx="27"/>
          </p:nvPr>
        </p:nvSpPr>
        <p:spPr>
          <a:xfrm>
            <a:off x="4774680" y="6356520"/>
            <a:ext cx="2845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4E07-1282-437D-A6A5-07ADB55D50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projectshare.esc4.net/video/assets/Science/Physics/Gateway%20Resources/balanced%20and%20unbalanced%20forces%20-%20grade%208/index.html" TargetMode="External"/><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Title 1" descr=""/>
          <p:cNvPicPr/>
          <p:nvPr/>
        </p:nvPicPr>
        <p:blipFill>
          <a:blip r:embed="rId1"/>
          <a:stretch/>
        </p:blipFill>
        <p:spPr>
          <a:xfrm>
            <a:off x="609480" y="536400"/>
            <a:ext cx="10972800" cy="1140120"/>
          </a:xfrm>
          <a:prstGeom prst="rect">
            <a:avLst/>
          </a:prstGeom>
          <a:ln w="0">
            <a:noFill/>
          </a:ln>
        </p:spPr>
      </p:pic>
      <p:pic>
        <p:nvPicPr>
          <p:cNvPr id="506" name="Content Placeholder 3" descr="">
            <a:hlinkClick r:id="rId2"/>
          </p:cNvPr>
          <p:cNvPicPr/>
          <p:nvPr/>
        </p:nvPicPr>
        <p:blipFill>
          <a:blip r:embed="rId3"/>
          <a:stretch/>
        </p:blipFill>
        <p:spPr>
          <a:xfrm>
            <a:off x="3046320" y="1752480"/>
            <a:ext cx="609912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16T23:16:30Z</dcterms:created>
  <dc:creator>Jackie Nowlin</dc:creator>
  <dc:description/>
  <dc:language>en-US</dc:language>
  <cp:lastModifiedBy>Jackie Nowlin</cp:lastModifiedBy>
  <dcterms:modified xsi:type="dcterms:W3CDTF">2016-05-16T23:18:33Z</dcterms:modified>
  <cp:revision>1</cp:revision>
  <dc:subject/>
  <dc:title>Fan Cart Sim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DBCF4249-8AE9-4962-96A8-91773D2CB932</vt:lpwstr>
  </property>
  <property fmtid="{D5CDD505-2E9C-101B-9397-08002B2CF9AE}" pid="3" name="ArticulatePath">
    <vt:lpwstr>Presentation1</vt:lpwstr>
  </property>
</Properties>
</file>